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74-0674-4B65-8641-E8AD7A6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67E-30F3-4CCF-A911-A3D9E66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3CF-CAE3-4F17-A15A-5C989DFA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97D-4BF6-4C58-A623-00373FF5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F2AB-7A2F-4052-B0B3-EF0E6003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5A3-51CC-412A-9858-E48D2CE7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1A98-57D7-4EB7-A109-E8AAC6D1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896-15DB-45EB-993E-86F98EA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EAED-C695-449C-98BD-D808C23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CB5-C196-490F-82A0-A9F86E3B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85F-0C10-43BE-99A1-56D3D3F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6E4-E3DB-46AB-A6AB-EC6BB30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9BD-02F0-4120-A5D5-E09D8BD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4FF-71BF-4BBE-8C70-0FDBC23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77D-4BCE-4D02-8E9C-16603A9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84EB-91E1-4912-8FD6-63ED44D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F60-126D-4C7A-A210-A6DEE2C2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A4C-EB51-483D-B71D-14E99863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FF3-E529-474F-8B93-F808A3E7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C3B-4CA9-4428-B915-33D795D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92B-6370-445E-95FA-0D05DAE1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96-3180-4FE6-9405-3A47679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C31-3C0F-480D-87BE-8170961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57F-A426-420F-B2DA-3200A85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8BE-B50E-4658-90CE-53889AEBBD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A034-16BA-4FA3-930D-FF06D37FC1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GmdBU"/>
                <a:ea typeface="AVGmdBU"/>
              </a:rPr>
              <a:t>Movement of Russia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宋体"/>
              </a:rPr>
              <a:t>By: Karen Chen and Mona Zhe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10e0"/>
                </a:solidFill>
                <a:latin typeface="MS UI Gothic"/>
                <a:ea typeface="MS UI Gothic"/>
              </a:rPr>
              <a:t>Types of Movement in Russi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C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Tr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Subw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Motorcyc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Carriages pulled by ho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Impact"/>
                <a:ea typeface="宋体"/>
              </a:rPr>
              <a:t>Port Cit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Impact"/>
                <a:ea typeface="宋体"/>
              </a:rPr>
              <a:t>Kaliningrad</a:t>
            </a:r>
            <a:r>
              <a:rPr b="0" lang="en-US" sz="1400" spc="-1" strike="noStrike">
                <a:solidFill>
                  <a:srgbClr val="ff5050"/>
                </a:solidFill>
                <a:latin typeface="Impact"/>
                <a:ea typeface="宋体"/>
              </a:rPr>
              <a:t>-No ice all year rou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Kalining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Murman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Vladivost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Astrakh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047840" cy="327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b931e"/>
                </a:solidFill>
                <a:latin typeface="Comic Sans MS"/>
                <a:ea typeface="宋体"/>
              </a:rPr>
              <a:t>Advanta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Lots of port c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Lots of different transpor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Volga river carries half of Russia's river traff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12000"/>
          </a:blip>
          <a:stretch/>
        </p:blipFill>
        <p:spPr>
          <a:xfrm rot="21240000">
            <a:off x="4800600" y="198072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3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6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69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  <a:ea typeface="Malgun Gothic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Isolation-takes 8 or more days to travel across Russi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Highways build in fo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Protests are form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Rivers can free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Comic Sans MS"/>
                <a:ea typeface="宋体"/>
              </a:rPr>
              <a:t>ME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Name of one of Russia's sub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People in Moscow takes the M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Most of the people take the metro to go to wor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4876920" cy="281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352680" cy="4362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entury"/>
                <a:ea typeface="宋体"/>
              </a:rPr>
              <a:t>Russia’s Subway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8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entury"/>
                <a:ea typeface="宋体"/>
              </a:rPr>
              <a:t>Most confusing subways in the wor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8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entury"/>
                <a:ea typeface="宋体"/>
              </a:rPr>
              <a:t>Tourists can get l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Eastern Russia has lots of high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Really hard to get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The size of Russia is too big to get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Have to go through highlands to get to eastern Russ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egoe Script"/>
                <a:ea typeface="宋体"/>
              </a:rPr>
              <a:t>TH</a:t>
            </a:r>
            <a:r>
              <a:rPr b="0" lang="en-US" sz="8000" spc="-1" strike="noStrike">
                <a:solidFill>
                  <a:srgbClr val="1010e0"/>
                </a:solidFill>
                <a:latin typeface="Segoe Script"/>
                <a:ea typeface="宋体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Segoe Script"/>
                <a:ea typeface="宋体"/>
              </a:rPr>
              <a:t> </a:t>
            </a:r>
            <a:r>
              <a:rPr b="0" lang="en-US" sz="8000" spc="-1" strike="noStrike">
                <a:solidFill>
                  <a:srgbClr val="1010e0"/>
                </a:solidFill>
                <a:latin typeface="Segoe Script"/>
                <a:ea typeface="宋体"/>
              </a:rPr>
              <a:t>E</a:t>
            </a:r>
            <a:r>
              <a:rPr b="0" lang="en-US" sz="8000" spc="-1" strike="noStrike">
                <a:solidFill>
                  <a:srgbClr val="ff0000"/>
                </a:solidFill>
                <a:latin typeface="Segoe Script"/>
                <a:ea typeface="宋体"/>
              </a:rPr>
              <a:t>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1:42Z</dcterms:created>
  <dc:creator> </dc:creator>
  <dc:description/>
  <dc:language>en-US</dc:language>
  <cp:lastModifiedBy> </cp:lastModifiedBy>
  <dcterms:modified xsi:type="dcterms:W3CDTF">2010-12-20T14:55:23Z</dcterms:modified>
  <cp:revision>7</cp:revision>
  <dc:subject/>
  <dc:title>Movement of Russia</dc:title>
</cp:coreProperties>
</file>